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978-424E-45FE-BB67-0BAFE221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C91-43B9-4493-8298-126C511C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950-565F-4E28-9C33-B3972A7C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325-2BCB-452D-8C21-F797B04A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9A2-B4E5-4A0C-A480-71FFB39D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652-0183-4A5A-95EE-67410F97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117-E0FF-4072-BF29-6090DB29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32E-75E0-4986-A3C6-719209F4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8AC-B3CB-462A-8BC4-27EAE2B3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451-8B49-467F-B03A-5C9C7AF3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217-5DCC-40C5-913B-E65BBB62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EE1-E30F-40E0-83A0-447F1E1D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4470-B889-40BB-8931-6A0D748E6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18288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упе намирница. Енергетска вредност хране. Калориметрија. Енергетска густ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86000" y="4419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мат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а недеља наста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Спадa у гру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млинских произ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Типови брашн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Бело брашно (тип 400),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најфи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је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са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нaјмањим степeном издвајaњ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Црно брашно (тип 1200 и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1000),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грубље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скорo без 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двајaња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сачувало скорo у потpуности 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олoшку вредност интегралног зрн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Грахaм брашно (тип 1800), груб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без 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двајaњ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сачувало скорo у потpуности 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олoшку вредност интегралног зр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0" y="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3. МАСТИ И УЉА - по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биљног пoрекл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рга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 добијен из биљних уља посебном технолог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o конзистенцији мoже бити чврст, мeкан и теч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aјчешћe му с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т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бичајено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aдрж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80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% воде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у н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ј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eмe 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40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-транс масн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И ДЕ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304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валитет хра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 својстав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односе на могућност д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а задовољи нутритивне и физиолоке потребе организ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Храна мора би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о безбед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јективан приступ квалитету хран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процена потрошача о прихватљивости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нована на стеченом утиск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епену доживљеног задовољств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јективан приступ квалитет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мера својстава хране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снова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аналитичом 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тупу и испитивању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у одабраних показатеља и обради подата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Picture12.png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30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457200" y="58680"/>
            <a:ext cx="8153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Интернационалном систему једин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на јединица за енергију ј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žul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да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žul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количину енергије потребну да се тело масе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мери за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ом силе од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кос препорукама да се за изражавање енергетске вредности хране користи Ј. односно кЈ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енергије намирница често се  изражава калоријама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ос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-калоријам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алориј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је количина енергије потребне да се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 загреје за 1 °Ц при нормалном атмосферском притиску (1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илокалориј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је 1 000 пута већа количина енергије од калорије и дефинише се као количина енергије потребна да се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 загреје за 1Ц при нормалном атмосферском пригску (1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акси с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хране изражава коришћење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л кЈ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 конверзију се користе следећи факто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kJ = 0.239 k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kcal = 4.184 k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љиве материје у намирницама (протеини, масти и угљени хидрати) садрже онолико енергије колико је било потребно за њихову синте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 енергије намирница може да се одреди сагоревањем намирница у калориметријској бомб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рачунавањем на основу конверзионих фактора или израчунавањем на основу бруто формула једињења која  улазе у састав намирни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80880" y="228240"/>
            <a:ext cx="8382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а енергија хране одређује се мерењем топлотне енергије која се ослобађа током сагоревања хране у калориметрској бомби 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ректн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ориметрија).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ориметријска бомба је затворена посуда унутар које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орак хране сагорева у присуству кисеоника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ореваргем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ксидацијом) хране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 се топлот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ева воду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еном купатилу изолованом од спољашње средине.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пораста температуре воде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 се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енергије која се  ослобађа  из узорка намирнице.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оревањем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еина у калометријској бомби отпушта (у просеку) 24 кЈ. или 5,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нергије.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а протеина у калориметријској бомби је комплетн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 смеше оксида), за разлику од оксидације протеина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људском телу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резултира настанком урее и других азотних једињења (креатинин, мокраћна киселина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тпуне оксидациј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ског азот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енергије која се у организму ослободи из протеина је мања у односу на енергију ослобођену у калориметријској бомб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хуманом организму се из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а ослобађа у просеку 17кЈ, односно 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 сагоревања масти и угљених хидрата у калориметријској бомби идентични су производима сагоревања масти у угљених хидрата у хуманом организму (угљен диоксид и вод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схран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масних кисели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е улазе у састав триацилглицерола. Сагоревањем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и ослобада се (у просеку) 37 кЈ, односно 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нергије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 1.2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коју садрж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 хидра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броја моносахаридних јединица и типа гликозидних веза у молекул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агоревањем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љених хидрата ослобађа се (у просеку) 17 кЈ, односно 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(Табела 1.2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појединим изворима, просечна количина енергије која се ослободи при сагоревању 1 г хранљивих материја износи 19,7 кЈ (4,7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 протеине, 39,5 кЈ (9,4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 масти и 17,5 кЈ (4,1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 угљене хидрате, док претходно наведене вредности одговарају метаболизму доступној енергији након губитка дела хранљивих материја урином и фецесом (енги. метаболизабле енергy). Садржај енергије 1 г протеина (17 кЈ), масти (37 кЈ) и угљених хидрата (17 кЈ) представља заокружене просечне енергетске вредности 1 г хранљивих материја према Организацији за храну и пољопривреду  уједињених нациј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ом минерала не ослобађа се енергиј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која се добија оксидацијом витамина је занемарљива, због мале количине витамина присутне у намирницама у односу на количине хранљивих материј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Content Placeholder 4" descr="Picture2.png"/>
          <p:cNvPicPr/>
          <p:nvPr/>
        </p:nvPicPr>
        <p:blipFill>
          <a:blip r:embed="rId1"/>
          <a:stretch/>
        </p:blipFill>
        <p:spPr>
          <a:xfrm>
            <a:off x="838080" y="577800"/>
            <a:ext cx="708660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е енергетске вредности намирница са познатим уделом хранљивих материја </a:t>
            </a:r>
            <a:br>
              <a:rPr sz="2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намирница може да се израчуна уколико је процентуални удео протеина масти и угљених хидрата у намирници познат. За израчунавање се користе фактори за прерачунавање садржаја хранљивих материја у јединице енергије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осно подаци добијени директном калориметријом.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нути фактори су 17 кЈ (4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37 кЈ (9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17 кЈ (4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а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е, масти и угљене хидрате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едом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(ЕВ) намирнице изрчаунава се као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 = % протеина x 4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% масти x 9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% угљених хидрата x 4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 = % протеина x 17 кЈ + % масти x 37 кЈ + % угљених хидрата x 17 кЈ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израунавања енергетске вредности 100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мирнице приказан је у </a:t>
            </a:r>
            <a:r>
              <a:rPr b="0" lang="sr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ели 1.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Content Placeholder 5" descr="Picture4.png"/>
          <p:cNvPicPr/>
          <p:nvPr/>
        </p:nvPicPr>
        <p:blipFill>
          <a:blip r:embed="rId1"/>
          <a:stretch/>
        </p:blipFill>
        <p:spPr>
          <a:xfrm>
            <a:off x="609480" y="533520"/>
            <a:ext cx="7696440" cy="55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Данaс владa посебан 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терeс за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пшени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е клице,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које су биолoшки врло вреднe (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садрже масне киселине, витамине Е и А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Брашно треба чувати добрo упаковано, у ориг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на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ој амбaлажи, на сувом и хладном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есту које je добрo проветрe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ње енергетске вредности намирница на основу бруто форму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намирница може да се израчуна на основу енергије везивања водоника и угљеника, ако су познате бруто формуле једињења која улазе у састав намирница. Описа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 погод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сам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амирнице које садрже углавном угљеник и водоник (масти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 присуство кисеоника отежава израчунавање енергетске вредности намирни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 енергије из намирниц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тходно описаним методама процењује се укупна енергија садржана у намиирнцама  (сирова енергија). Сирова енергија намирница није у потпуности доступна  хуманом организму. Део енергије намирница губи се услед губитка хранљивих материја урином и фецесом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шћење преостале сирове енергије зависи од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а дигестибилности намирниц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а апсорпције хранљивих материј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дигестивног тракта који су функциј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рикса намирнице (нпр. присуство дијетних влакана, врсте протеина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 припреме намирнице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а инидивидуе која конзумира намирницу (старост, присуство болест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 сирове енергије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рганизму искорист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 се ,,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оришћена енергија”. Однос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коју организам искористи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 која се унесе у организам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скоришћења енергије из намирница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)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скоришћења енергије из намирница = Чиста енергија /Сирова енергија намирниц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а енергетска вредност намирница добија се множењем сирове енергетске вредности намирница фактором искоришћења енергије из намирниц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израунавања сирове и чисте енергетске вредности 100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мирнице прик азан је у табели 1.4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3" descr="Picture7.png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45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густина намирн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густина представља количину енергије у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 садржану у јединици масе или запремине намирниц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е у енергетској густини појединих намирница пследица су различите заступљености атома угљеника, водоника и кисеоника у намирни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ама.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е већег процентуалног садржаја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 и шећера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у енергетску густину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лику од 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ирница са високим процентуалним  садржајем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 и дијетних влакана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углавном имају </a:t>
            </a: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у енергетску густин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густина хране =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хране / маса хра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; 2100 kJ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g; 2000 k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а енергетска густина        Виша енергетска гу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 кЈ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 гр.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кЈ/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Ј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 гр.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Ј/</a:t>
            </a:r>
            <a:r>
              <a:rPr b="1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0" y="1676520"/>
            <a:ext cx="4495680" cy="3733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43434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ука Америчког института за проучавање рака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 Institute for Cancer Research — AICR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сте да се ограничи унос енергетски густих намирница. Под енергетски густим намирницама подразумевају се намирнице које садрже више од 225-27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/100g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пулационом нивоу, просечна енергетска густина конзумираних намирница треба да буде смањена на 12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ca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индивидуалном нивоу, препорука је да се енергетски густе намирнице уносе што ређе и у то мањим порција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ЖИТАРИЦЕ 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Хлеб и пец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Хлеб је производ од жита и може да се прави од брашна различите издвојености, а од тога зависе особине и хранљива вредно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0" y="0"/>
            <a:ext cx="9144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Хлеб и пец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Тради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она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о хлеб се добија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мешањем брашнa, воде и квасцa уз д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атaк соли,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а може сe обoга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разли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тим д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ацима (кромпир, млеко, семeнке, мекиње и др.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Остављa се да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стоји на топлoм ради фермeнтације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а онда се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пeче на високoј темпeратур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(п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ечeњу је стер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а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0" y="0"/>
            <a:ext cx="91440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Хлеб и пец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Добрo печeн хлеб треба дa има корицу мрке боје и правилне мале шупљине у сред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Добрo охлађен може да се чу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краће времe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собнoј темпeрат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дуже (пар данa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 у амбaлажи (целофану)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и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фризу на -18 </a:t>
            </a:r>
            <a:r>
              <a:rPr b="1" lang="fr-FR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C до 40 дан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2. ПОВРЋ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Поврће обухвата плодове и делове повртарских биљака које се уобичајено користе у исхрани људи. То су најчешће: лишће, главице, луковице, кртоле,  махуне или стабло у свежем или прерађеном обл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У исхрани нашег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ановништва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поврће чини 6% уноса намирнице биљног порекла. То говори о врло скромном унос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2. ПОВРЋ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Поврће садрж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највише воде, а најмање масти, па му је енергетска вредност мала.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Ово с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не односи на кромпир и легуминоз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Поврће садржи мешавину шећера и скроб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2. ПОВРЋ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Угљени хидрати су присутни у форми нескробних полисахарида изузев легуминоза које имају већи садржај целулоз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Богато је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3200" spc="-1" strike="noStrike">
                <a:solidFill>
                  <a:srgbClr val="000000"/>
                </a:solidFill>
                <a:latin typeface="Times New Roman"/>
              </a:rPr>
              <a:t>Бe група, C, A, E, K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2. ПОВРЋЕ - 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подела према особинама и хранљивој вредности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 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ртоласто, коренасто и луковичаст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лавичасто и лиснат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хунасто и поврће са пл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0" y="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2. ПОВРЋ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толасто, коренасто и луковичас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заступљеније врсте поврћа у људској исхрани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познатије поврће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ве групе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у: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кромпир, шаргарепа, першун, лук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и др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0" y="0"/>
            <a:ext cx="914400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МИРНИЦ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у све оно што се користи као храна и пиће, у прерађеном или непрерађеном облику, као и зачини, боје и друге материје које се додају намирницама ради конзервисања, побољшања изгледа, укуса или мириса, обогаћивања и д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2. ПОВРЋЕ - 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подела према особинама и хранљивој вреднос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Главичасто и лисна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познатије поврћ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ве груп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у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упус, кељ, карфиол, спанаћ, зеље, блитва, зелена сала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 д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ма изузетно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иску калоријску,                    а високу хранљиву вредно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2. ПОВРЋЕ - 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подела према особинама и хранљивој вредности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хунасто и поврће са пл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мају изузетан значај у исхрани људи у неразвијеним подручјима (јефтин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звор биолошки вредних беланчевин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познатије поврћ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з ове груп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у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асуљ, грашак, боранија, соја, кикирик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ВОЋ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оће чине посебне биљне врсте које св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јим плодом обавијају семе, нежне су структуре и најчешће се користе у свежем стањ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оћ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држи мешавину глукозе, фруктозе и сахароз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у различитим односима у зависности од врсте воћ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0" y="0"/>
            <a:ext cx="9144000" cy="59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ВОЋ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Угљени хидрати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су присутн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у форми пект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Богато ј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минералним материја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K, Mg, F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витаминима (</a:t>
            </a:r>
            <a:r>
              <a:rPr b="1" i="1" lang="fr-FR" sz="3600" spc="-1" strike="noStrike">
                <a:solidFill>
                  <a:srgbClr val="000000"/>
                </a:solidFill>
                <a:latin typeface="Times New Roman"/>
              </a:rPr>
              <a:t>C, A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ВОЋЕ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одела по особинама и хранљивој вре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о особинама и хранљивој вредности разликујемо воћ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огато в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огато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т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ВОЋЕ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одела по особинама и хранљивој вре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ће богато в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огато је водом, витаминима и минералним материјам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иске је калоријске вредност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ВОЋЕ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одела по особинама и хранљивој вред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ће богато вод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познатије воће је: </a:t>
            </a:r>
            <a:r>
              <a:rPr b="0" i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јабук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, крушке, брескве, кајсије, </a:t>
            </a:r>
            <a:r>
              <a:rPr b="0" i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шње,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ишње, </a:t>
            </a:r>
            <a:r>
              <a:rPr b="0" i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цитрусно воће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лимун, помора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џ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а, мандарина, ананас и др.), малинасто воће (малине, купине, боровнице, рибизле и д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0" y="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ВОЋЕ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дела по особинама и хранљивој 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Воће богато маст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Богато је мастим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50%-углавном незасићене масне киселине),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липосолубилним витаминима, минералним материја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Високе је калоријске вреднос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!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познатије воће је: 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раси, лешник, бадем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еменке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унцокрета, бундеве и др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4. ГЉИ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Биолошки су врло вред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Користе се због специфичног укуса и мирис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адржај протеина до 2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Већина намирница биљног порекла производи се сезонс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Како су богате водом постоји велика могућност кварења и микробиолошке контаминациј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0" y="0"/>
            <a:ext cx="91440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Подела намирница по порекл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БИЉНО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ЖИВОТИЊСКО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Заштита намирница биљног порекла може бит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раткороч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д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гороч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Краткорочн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аштита намирница биљног порекл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дмах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о берби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рће и воће ставити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одговарајућу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амбалажу,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релативно брзо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нспортовати и потроши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 може би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шењ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терилизацијом у аутоклав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емијском конзервациј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нзервација  са шећер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рзавањ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-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Сушењ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мирница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злаже топлом ваздуху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количина влаге да остане 15-20%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Конзервисан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овај начин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не су најчешћ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згубиле у садржају витамина 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е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 фолата и тиамина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посебно ако су пре сушења изложене неком хемијском једињењу).</a:t>
            </a:r>
            <a:r>
              <a:rPr b="0" lang="nl-NL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 -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Стерилизацијом у аутокл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мирнице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тходно оперу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кувају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(бланширају), па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ве у лименке и изложе топлом ваздуху у аутоклаву на 120 </a:t>
            </a:r>
            <a:r>
              <a:rPr b="1" lang="nl-NL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и 1 ат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сфе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јање стерилизације зависи од величине лименке. Уобичајено се при овом типу конзервације рачуна на губитак хидросолубилних витамина од 20-5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 -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Хемијском конзерва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мирнице се конзервишу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употребом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хемијских једињења (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о, сирћетна киселина, лимунстус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 др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одатком ових једињења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пречава развој бактерија и гљиви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 -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Конзервација  са шећ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овај начин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најчешће конзервише воће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 то прављењем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армелада,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џ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емова, слатка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 комп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Што је концентрација шећера мања то се мора додати неки од конзервана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838080" y="762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NAMIRNICE BILJNOG POREKLA</a:t>
            </a:r>
            <a:r>
              <a:rPr b="1" lang="sl-SI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ЧУВАЊЕ И ОБРАДА НАМИРНИЦА БИЉНОГ ПОРЕ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Дугорочна заштита намирница биљног порекла -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Смрзавањ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мирнице се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тходно оперу и прокувају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па се брзо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зложе температури од -35 </a:t>
            </a:r>
            <a:r>
              <a:rPr b="1" lang="nl-NL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Чувају на -20 </a:t>
            </a:r>
            <a:r>
              <a:rPr b="1" lang="nl-NL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Губитак хранљиве вредности је минималан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ко су намирнице доброг квалитета и нису дуго стајале на вазду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1676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НАМИРНИЦЕ ЖИВОТИЊСКОГ ПОРЕК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0" y="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Ову групу чине намирница богате беланчевинама високог квалитета и минералним материјам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Најчешће групе ових намирница с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, РИБА, ЈАЈ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МЛЕКО И ПРОИЗВОД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ТИ И УЉ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0" y="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</a:rPr>
              <a:t>Групе намирница биљеног порекла 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ЖИТАРИЦЕ И ПРОИЗВО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РЋ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ВОЋ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ГЉИ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nl-NL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, РИБЕ, Ј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ПРАЂЕВ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пр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вине су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иров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ли пр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ађени делови 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вотиња који се користе у исхрани љу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0" y="0"/>
            <a:ext cx="914400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МЕСО И МЕСНЕ ПРАЂЕВИНЕ - порек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Може бити 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маћих животи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говеђе, јунеће, телеће, свињско, овчије, јагњеће, кокошије, ћуреће, пачије, гушчиј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Дивљих животињ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дивљач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срнеће, дивље свиње, фазанско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- учешће у исхра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представља значајан део исхране многих народа у свет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Оно учествује у исхран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а 1,2% у неразвијеним земљам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ко 3% у земљ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 у развој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а 15% развијеним земљам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 - својство ме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војство меса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(органолептичке особине, састав и присуство хранљивих материја у месу)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зависе 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врсте м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тарости и пола животи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начина припре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МЕСО И МЕСНЕ ПРАЂЕВИНЕ  - садржај м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Просечно месо садр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50-70% воде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проценат опада како расте проценат масти!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5-20% беланчевин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убраја у намирнице богате биолошки вредним беланчевинама, јер је однос аминокиселина приближан потребама човека-односи на миоалбумине и глобулине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2-50% масти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неки масни делови свињског и јагњећег меса садрже до 70% масти; углавносм су то засићене масне киселин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0" y="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ЕСО, РИБЕ, ЈА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О И МЕСНЕ ПРАЂЕВИНЕ  - садржај м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етска вредност меса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креће од </a:t>
            </a: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 kcal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леће бело месо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кожице) </a:t>
            </a: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650 kcal (масно свињско месо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 - садржај м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садржи и микронутријен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е који се добро искоришћавају и т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нералнe материје (K, F, Mg, Fe, Co, Cu, Z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тамине (B grupe, A и д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есо се мо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увати и обрађива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ађењ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и смрзавањ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шењ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мљењ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ламурење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вљењем 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есн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конзерв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МЕСО И МЕСНЕ ПРАЂЕВИНЕ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чување и об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лађење и смрз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ле клања, примарне обраде и хлађења на температури од 0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 до 4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 (тзв. расхлађено месо) месо се може користи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о сир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 кулинарску об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ипремати за пре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лађење и смрз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ирово мес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е мож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чува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на температури 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 највише 10 да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“расхлађено месо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0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 највише 30 да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“прохлађено месо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18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 до -30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 највише до 1 г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0" y="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ИТАРИЦЕ И ПРОИЗВО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итарице, жита или церeалије су зрели плодoви култивисаних биљакa у које спадaј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шениц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а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Јечам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Пирин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укуруз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вас, и д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Хлађење и смрзав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Хранљива вредност меса остаје очувана ако је поступак замрзавања правилно изведен, а одмрзавање постепе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уш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 се конзервир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злагањем струјању ваздух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губитком воде се зауставља ферментација и деловање микроорганизама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имљ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 с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сол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, п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злаже хладном диму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25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или топлом диму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65-80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бољшава се мирис и уку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ламур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 се третир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ољу помешаном са нитритима, нитратима, полифосфатима, шећеро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и д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МЕСО И МЕСНЕ ПРАЂЕВИНЕ 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ување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б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есне конзе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улинарски припрем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ви у лименке које се излажу температури од 120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 и притиску од 1 атмосфере у аутокла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јање стерилизације зависи од величине лимен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овај начин месо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може чувати веома дуг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на собној температури у сувој и проветреној просторији.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И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ео рибе у исхрани људи у нашој земљи је ни 10 грама днев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јства и хемијске особине  зависе 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р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р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ар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схране ри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а може б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Бел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слић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зубатац, смуђ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астрм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и др.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на риб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сардела, бакалар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куш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 харинга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шаран, лосос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олстолобик и др.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Шкољке и рак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0" y="0"/>
            <a:ext cx="91440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ЗВОДИ - свој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ибе су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огат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високо квалитетним беланчевинама 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есенцијалним аминокиселинама – 16-23%)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ВОДИ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држај ма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вис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 од врсте рибе и 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елој риби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ј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низак (до 4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ној риби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ј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исок (до 10%) и то незасићених масних кисе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ЖИТАРИЦЕ 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Житарице представљају значајан део исхране многих народа у свет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не чине у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развијеним земљама до 70% исхра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емљема у развоју до 50% исхра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звијеним земљама до 30% исхра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 нашој земљи данас житарице чине до 50% исхран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ВОДИ - сво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адржај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је 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елој риби висок (74-80%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ној риби нижи (до 70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ВОДИ - свој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држа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гљених хидрат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је о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,5 до 1%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а енергетска вредност зависи од садржаја масти и варира од 70 kcal за посне рибе до 230 kcal за масне ри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Рибе су главни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извор Ј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, а мање: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Ca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већи када се једу са костима),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Na, Z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тами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рибе садрже једин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 и 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ВОДИ - 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бог високог садржаја воде,  беланчевина и незасићених масти рибе лако подлежу кварењ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о улову се морају брзо обрадити и сачувати на одговарајући начи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ВОДИ - 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огу се чуват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рзавањ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мљењ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рављењем 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бљ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конзерв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ВОДИ - чување и об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мрз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Риба се може чувати на температури о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3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највише 5 д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18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највише до 6 месе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Хранљива вредност меса остаје очувана ако је поступак замрзавања правилно изведен,                     а одмрзавање постепено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ВОДИ - 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имљ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о с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сол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, па изла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хладном диму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25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) ил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врелом диму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9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C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обољшава се мирис и уку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ИБЕ И ПР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ВОДИ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ибље конзер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Рибе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улинарски припрем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в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у лименк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које се излаж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емператури од 120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 и притиску од 1 atm у аутоклав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јање стерилизације зависи од величине лимен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На овај начин месо се може чувати веома дуго, на собној температури у сувој и проветреној простор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0" y="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ајвећу вредност у исхрани људи имају кокошија јај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 -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Јаје је намирница која има велику биолошку вредност и то пре свега због високо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валитетних беланчевина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(12-13%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садрж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ве есенцијалне аминокиселин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 одговарајућем односу, а могућност искоришћења је потпун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 (100%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АЈА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сти јаја (14%) су богат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осфолипид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а однос масних киселина је у корист полинезасићен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јвише холестерола има у жуманцету (30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ЖИТАРИЦЕ И ПРОИЗ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Садрже (са варијацијама у односу на врст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80% угљених хидрата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највише скроба и нешто моносахарида и влакана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8-16% проте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2-7% мас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око 2% микронутриј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та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минералне материје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калцијум, фосфор, гвожђе, бакар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витамине: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 групе, Е и Д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0" y="0"/>
            <a:ext cx="914400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ЈА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љених хидрат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а ок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%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енергетска вредност 100 g јај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 кома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износи 150-160 К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Жуманце је богато F, Ca i F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а има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а: А и 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0" y="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ЈАЈА - чување и обра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лађењ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онзервисана ја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мрзнути мелан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аја у прах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ЈАЈА - чување и об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Хлађ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Јаја се чувају 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ператур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 релативној влажности ваздуха до 90% и више месец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0" y="0"/>
            <a:ext cx="9144000" cy="48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ЈА - чување и об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нзервисана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а се могу чуват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чној води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креча и воде (неколико месеци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ом стаклу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натријум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иката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-12 месец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Ø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м парафину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-12 месец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ЈАЈА - чување и об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мрзнути мелан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вај начин чувања подразумева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чување течних јаја, без љуске, хомогенизованих, пастеризованих, охлађених и стављених у одговарајућу амбалажу на – 3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C до 12 месеци.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0" y="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1. МЕСО, РИБЕ, Ј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ЈА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чување и об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Јаја у пра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Јаја у праху се добијај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сушењем хомогенизоване масе беланца и жуманц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(или посебно) у комори кроз коју пролази топао ваздух (60-7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ако третирана јаја могу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чувати 12 месец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Употребљавају се додавањем воде (1:2,5 делова вод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 исхрани људи уобичајено се под млеком подразумева кравље млек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Хемијски млеко је емулзија масти у воденом раствору протеина, лактозе и минералних материј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леко учествује у исхрани људи 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еразвијеном свету са нешто преко 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земљама у развоју са око 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азвијеном свету са преко 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астав и нутритивна вредност млека зависи од врс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0" y="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крављем млеку 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8% вод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% протеина (80% казеина), лакалбумина, лактглобулина, имуноглобулина и албумин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вно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рума (протеини сурутке са имунолошким својствим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5-6% масти (триглицерида, нешто фосфолипида, лецитина и холестерола, садржај незасићених масних киселина је низак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4,6% дисахарид лактаз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нералних материја (Ca, F, K, Na, Mg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итамина (A, D, E, B grupe, 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Енергетска вредност 100ml крављег млека је 67 Кca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Искористљивост беланчевина из крављег 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лека је потпу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ЖИТАРИЦЕ 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Ретко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се корист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без претходне обраде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Најчешће се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користи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љуштење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пиринач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) или </a:t>
            </a: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млевење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пшеница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Поступак прераде најчешће мења хранљиву вредност и особине производа, а од степена издвајања директно зависи биолошка и дијететска вредно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Подела млечних производа према начину термичке обрад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астери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терили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итаминизир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ондензова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леко у прах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нстант млеко у прах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Times New Roman"/>
              </a:rPr>
              <a:t>Пастеризовани млечни произво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Уништавају се само вегетативни облици микроорганизама. Добија се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загревањем млек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63-65</a:t>
            </a:r>
            <a:r>
              <a:rPr b="1" lang="nl-NL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C у трајању од 30 минут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ниска пастеризациј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82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C у трајању од 20 секунди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висока пастеризација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72-76</a:t>
            </a:r>
            <a:r>
              <a:rPr b="1" lang="de-DE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C у трајању од 15 до 20 секунди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краткотрајна пастеријазиј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0" y="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Пастеризовани млечни производ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Морају се чувати на 1-4</a:t>
            </a:r>
            <a:r>
              <a:rPr b="1" lang="fr-FR" sz="4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, а пре употребе мора се прокувати 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0" y="0"/>
            <a:ext cx="9144000" cy="61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Стерилизовани млечни произ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евањем млека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-120</a:t>
            </a:r>
            <a:r>
              <a:rPr b="1" lang="nl-NL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трајању од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40 минут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ари начин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-150</a:t>
            </a:r>
            <a:r>
              <a:rPr b="1" lang="nl-NL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тајању од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до 2 секунде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ан амбалаже, хомогенизује и сипа у стерилисане судове (UHT стерилизација, краткотрајна стерилизациј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терилизован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леко прерађено на овај начин има високу биолошку вредност и непромењена органолептичка својства, осим благе жуте боје.</a:t>
            </a:r>
            <a:r>
              <a:rPr b="0" lang="nl-NL" sz="3600" spc="-1" strike="noStrike">
                <a:solidFill>
                  <a:srgbClr val="ffffcc"/>
                </a:solidFill>
                <a:latin typeface="Times New Roman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Витаминизирани млечни произв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леку се додају витами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А и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Кондензовани млечни произв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обија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испаравањем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1/3 до ½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воде са додавањем шећера или без њ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оже се чувати на температури до 10</a:t>
            </a:r>
            <a:r>
              <a:rPr b="0" lang="nl-NL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Млеко у прах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Добија се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сушењем до садржаја воде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д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4-6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Може бити пуномасно (најмање 25% масти), полуобрано (12,5% масти) и обр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Трајност овог млека је 8 до 12 месец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Рехидрација се обавља додатком вод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(на 1000 ml воде додаје се 125 g млека)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0" y="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Инстант млеко у прах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Добија се специјалним технолошким поступком и боље се реконстрише од обичног мл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0" y="0"/>
            <a:ext cx="91440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МЛЕКО И МЛЕЧНИ ПРОИЗВОДИ -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ферментисани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млечни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обијају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ферментацијом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д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јством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лечнокиселинским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актерија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чим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слобађ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актоз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олаз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ад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чим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устављ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аст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ногих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атогених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актериј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обија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табилизован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оизвод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 - </a:t>
            </a:r>
            <a:r>
              <a:rPr b="1" i="1" lang="nl-NL" sz="3200" spc="-1" strike="noStrike">
                <a:solidFill>
                  <a:srgbClr val="000000"/>
                </a:solidFill>
                <a:latin typeface="Times New Roman"/>
              </a:rPr>
              <a:t>ферментисани млечни произво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Ферментисани производи су освежавајућег укуса, лако се варе и имају широку примену у дијететиц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Чувају се на температури од 1 до 4</a:t>
            </a:r>
            <a:r>
              <a:rPr b="1" lang="nl-NL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                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највише 5-7 дана.</a:t>
            </a:r>
            <a:r>
              <a:rPr b="1" lang="nl-NL" sz="3200" spc="-1" strike="noStrike">
                <a:solidFill>
                  <a:srgbClr val="ffffcc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ЖИТАРИЦЕ 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Производи од житарица су 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Браш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</a:rPr>
              <a:t>Хлеб и пец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0" y="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ферментисан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Највише се корист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исело млеко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огур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тали кисело млечни произво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ферментисан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аслац или бутер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је производ добијен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бућкањем павлаке, 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сирове или пастеризоване, и представља млечну маст уз одређен проценат једнако распоређене во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Садржај воде је највише 16%, а млечне масти до 80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МЛЕКО И МЛЕЧНИ ПРОИЗВОДИ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ферментисани млечн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Павлака, маслац и други произв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Енергетска вредност маслаца је 700-750 Кcal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/10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ма висок садржај витамина А и нешто витамина D и 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0" y="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У исхрани људи масти се користе као издвојена хра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 (видљиве масти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дела п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к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нзистенциј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орекл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 конзистенциј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разликујем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врст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(добијају с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 животињских производа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чне (уља-добијају се из биљак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 - </a:t>
            </a:r>
            <a:r>
              <a:rPr b="1" i="1" lang="nl-NL" sz="3600" spc="-1" strike="noStrike">
                <a:solidFill>
                  <a:srgbClr val="000000"/>
                </a:solidFill>
                <a:latin typeface="Times New Roman"/>
              </a:rPr>
              <a:t>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 пореклу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 разликујем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ти животињског порекл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масти биљног поре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 - 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сти животињског порекл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буте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вињска мас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лој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ланина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0" y="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3. МАСТИ И УЉА - поде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асти биљног порекл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уље из семенк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уље из масли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маргар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0" y="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3. МАСТИ И УЉА - по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ог пор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ље из семенки: сунцокрета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бундеве, соје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лан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 и др. (добијена поступком рафинације и топлог цеђењ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уље из маслина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добијен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тупко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рафинације и хладног цеђењ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25T21:43:12Z</dcterms:created>
  <dc:creator>Maja</dc:creator>
  <dc:description/>
  <dc:language>en-US</dc:language>
  <cp:lastModifiedBy>Maja</cp:lastModifiedBy>
  <dcterms:modified xsi:type="dcterms:W3CDTF">2020-09-29T16:52:48Z</dcterms:modified>
  <cp:revision>82</cp:revision>
  <dc:subject/>
  <dc:title>Slide 1</dc:title>
</cp:coreProperties>
</file>